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258-4CCE-4A5F-A4A2-3A7C7CB2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DBA-A51C-48BD-9869-3275BD9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320-6E73-4AD6-B96B-41ECE1F4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77F-D914-410C-BB16-4120D548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4C4-B39B-4BF4-A363-0DC67DF0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E488-E76C-4117-B832-B009DAC8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B069-750A-4104-B58D-646B702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606-3F93-40C3-8B62-30EE05FE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2A42-255E-4D97-8AB0-28E4A7DD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2235-4936-41BA-8E51-087A78DA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281-3837-4E4B-AB3B-AAEAE62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E93-38AE-46A4-91D7-4AE7BC6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C73-E2F3-4453-92CB-5406BD1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95A-4823-409B-BA05-855E928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259D-41FC-42B3-B4F5-5C8D9B9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E9A-D2FA-4534-81E8-5DEDD7C4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A784-8DD9-44D8-982A-FC0B5C1E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3DFD-849F-4D03-9776-A4257C77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870B-F93A-455C-8B05-4B36BD76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90B2-9D89-4840-93F4-702F59C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25F5-6B33-46BA-8902-72556E9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6B13-555B-4240-B5D0-D22A9748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563-22EA-4041-A552-E29290B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CF56-34BA-4ECA-AB7C-58F965F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B600-CB66-4A66-89CE-6A04D29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72C4-831E-457A-BE49-4BEF29E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EEAF-FC08-487C-BA70-B5F66C4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1311-3FE7-438B-8AD4-34C4BCBC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3563-6089-4748-B81B-400179DA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1DA9-64CD-4972-9108-94E03407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9626-D65D-4C52-AAA0-2D1ED667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3A93-9789-4819-B4B7-C23ABAB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FCE7-3FDD-4FBB-8389-27383B28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FA1-F7B9-4C3B-8E56-22491CD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1CC7-AEF3-42DE-BECC-5B3DC70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F7AC-E905-4876-8279-EE295FA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B668-D248-4023-84CF-7064961F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BAD1-2E39-4EAD-9279-1E2B2D97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9DFC-3891-4ABF-8CF5-783E146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1DF3-E18C-4806-AE7C-C62EE3A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A4B3-8A34-4A3F-9334-753F3A0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76C1-577A-4E6C-95E7-0C86321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B82A-C09B-4B4C-BA46-30A27389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AE30-DAA6-4B8A-AA9C-20DD13D2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4AA-C5E7-40DA-8DC0-D3F801B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CE6F-AA7D-4B06-A74B-8F160E52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F786-3B4A-446E-9775-92EE3952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EC56-53C3-44B9-85B0-512F9F7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D8C1-9E11-4D84-B733-370E09C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E921-E493-4857-83AB-C9C14038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32C7-B4A9-41BB-AC44-09C5CA4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EE7C-6CBD-4AFD-B7AA-2F13F8B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2A1A0-8AA4-4B63-B9FD-3E1A238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0848-B0CB-4914-BD4E-57E680C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53EB-241F-4D38-B370-B17E5915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45B-290D-4D3A-B3EB-8BA8012F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A54F-B2BD-4BFC-8FCE-AB01A3E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18A63-19CF-479B-9A2A-9A0CCCF6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7D02-8B47-46C7-94F8-41531233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50349-F951-4BD1-A9B0-0F76657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5640-0179-48A6-851A-3FB3ED8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EED9-C36F-4435-9363-1C07CA52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AC47-7917-47C9-BCF3-A1A85CE5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24F0-7F96-4B37-955F-5DF90E8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56549-2574-4FE8-B227-768C604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8A052-596E-4FE2-9B99-6B299CD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3E3-EEDA-4365-959C-A7B6160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6C5D-701D-4A01-A85D-DAC39662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541B-7489-4391-A1F0-57F7E709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6077-3AD5-4C21-A359-0A1BEEB5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7AD0-F8A3-4A53-A6AB-C9E4296A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6F011-96FE-436B-8B12-B957FA6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D065-D090-4C1D-8835-953C837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D610-A174-4984-9321-00E0309C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15D7-2286-4F51-975C-6957E6B9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FA4C-B531-46DB-9331-995B004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65F0-2272-4207-8084-90F19726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E5D-A111-4DF7-88F8-63C1815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A3CB-76A3-42F3-BE42-24CCDB0D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622C-90E2-46CF-8615-98514AD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F899-54E1-4B46-9E9E-B30E2AD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4A2C-907C-4452-B096-4B880D95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FF5A-9BF9-483F-84B3-E01BF69C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44C-1B24-42C1-BCA6-6328966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B80-444A-469B-AAC1-DE722DB2F6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8EF-3CE1-4951-AD04-87D57C97B62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CB9-0AFE-4AC5-9B03-E68566A4EA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EBD8-DCE9-4016-BEAF-C9075A37FE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CB17-C64D-49AA-B199-D9F392750F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637-1B81-478F-92C7-51316B04ED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32A-51A6-4ED5-A942-73DE2466D6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glish Senten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 + V + 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nd a complete ide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ansitive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verbs such as go and arrive can never have an object after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Ivonne goes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Ivonne enjoys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Ivonne goes to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verbs of all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are the person or thing after the verb. The object receives the action of the ver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are nouns or pronou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can include an adjective or modifi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ndra has a beautiful white c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information may follow the obje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ndra has a white car in her drive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objects of each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to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Be     Adj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delicio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Be              Nou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a delicious dis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Be      Place Phr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on the t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in the refrigerat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re +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4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ubject follows the verb to 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 tuna salad sandwich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t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wo empty plat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table this mo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a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 big sale on canned tun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re +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 Information: Place o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a tuna salad sandwich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n the tabl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ere two empty plat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n the table </a:t>
            </a: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this mo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as a big sale on canned tuna </a:t>
            </a: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last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of the there + be patterns in your paragrap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 + V +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 + Verb + Object + Other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aleri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the pian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practi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the pian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in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lik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classical music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enjoy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German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nglish sentences must begin with a capital letter and end with a peri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y likes ESL 183RW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ki teaches ESL class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all your sentences begin with a capital letter and end with a perio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 + V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 + Verb + (Object) + Other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V          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ven plays extremely we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practices for three hou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ven goes to piano class every 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- the person or thing  that does the action, the who or what you are talking ab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s a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ns or pronou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gi likes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enjoys classical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s 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positional phr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In piano class is learning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ound subjects- more than 1 person or t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 and Helen like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, Helen, and Vicki like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 and I enjoy listening to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mplete subject can include adjectives, modifiers, and prepositional phr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mazing teacher of the ESL class enjoys teach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y ugly dogs on the playground destroyed the flow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, the simple subject is still the person or thing you are talking ab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subjects of all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itive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verbs such as like and enjoy must have an object after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Najia likes 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Najia likes music 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dictionary will tell if a verb is transitive or n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0:35:11Z</dcterms:created>
  <dc:creator> </dc:creator>
  <dc:description/>
  <dc:language>en-US</dc:language>
  <cp:lastModifiedBy> </cp:lastModifiedBy>
  <dcterms:modified xsi:type="dcterms:W3CDTF">2010-03-09T21:28:00Z</dcterms:modified>
  <cp:revision>1</cp:revision>
  <dc:subject/>
  <dc:title>English Sentences</dc:title>
</cp:coreProperties>
</file>